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406-FF9D-4B48-8F3B-BBF74B8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218-3128-4C70-9D79-AF8B3272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D39-9A74-4538-BD96-1F6E8203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409-8A9C-4D3A-9AB1-DB7870F1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284-D949-432B-8095-697B6B3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CEB-C57A-4097-A356-7E290B09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238-1AB6-42D1-9702-ED6FEE1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3D7-5D42-416A-9A19-D5299AA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3E6-DEF9-4794-B9D1-CF1D66E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816-3A37-4546-B2D2-3C37F87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551-5A6D-4392-9033-EA94863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DA2-29E7-4DA2-B604-8DC3078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C6FC-8B9C-42CC-A367-90800925BE8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82E7-FBB6-4813-9A2A-41F6C00463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47C5-BDDE-42EB-A3E4-D1538CC5A5FD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3205080" y="968400"/>
            <a:ext cx="2090880" cy="2163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3"/>
          <a:stretch/>
        </p:blipFill>
        <p:spPr>
          <a:xfrm>
            <a:off x="2340000" y="3333600"/>
            <a:ext cx="3960720" cy="179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4"/>
          <a:stretch/>
        </p:blipFill>
        <p:spPr>
          <a:xfrm>
            <a:off x="6002280" y="1019160"/>
            <a:ext cx="2016360" cy="2112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"/>
          <p:cNvPicPr/>
          <p:nvPr/>
        </p:nvPicPr>
        <p:blipFill>
          <a:blip r:embed="rId5"/>
          <a:stretch/>
        </p:blipFill>
        <p:spPr>
          <a:xfrm>
            <a:off x="969840" y="942840"/>
            <a:ext cx="1801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38E-0BB2-44F2-A70C-23B88B0CB73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900000" y="998640"/>
            <a:ext cx="2303640" cy="1670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3635280" y="998640"/>
            <a:ext cx="17287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"/>
          <p:cNvPicPr/>
          <p:nvPr/>
        </p:nvPicPr>
        <p:blipFill>
          <a:blip r:embed="rId4"/>
          <a:stretch/>
        </p:blipFill>
        <p:spPr>
          <a:xfrm>
            <a:off x="6056280" y="998640"/>
            <a:ext cx="2376360" cy="16700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"/>
          <p:cNvPicPr/>
          <p:nvPr/>
        </p:nvPicPr>
        <p:blipFill>
          <a:blip r:embed="rId5"/>
          <a:stretch/>
        </p:blipFill>
        <p:spPr>
          <a:xfrm>
            <a:off x="1249200" y="299412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6"/>
          <a:stretch/>
        </p:blipFill>
        <p:spPr>
          <a:xfrm>
            <a:off x="3614760" y="3005280"/>
            <a:ext cx="1820880" cy="1995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"/>
          <p:cNvPicPr/>
          <p:nvPr/>
        </p:nvPicPr>
        <p:blipFill>
          <a:blip r:embed="rId7"/>
          <a:stretch/>
        </p:blipFill>
        <p:spPr>
          <a:xfrm>
            <a:off x="6357960" y="2976480"/>
            <a:ext cx="16034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681-9C0C-49C2-B2FC-923390BA9A18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900000" y="3263760"/>
            <a:ext cx="7632720" cy="17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tt-RU" sz="1200" spc="-1" strike="noStrike">
                <a:solidFill>
                  <a:srgbClr val="000000"/>
                </a:solidFill>
                <a:latin typeface="Arial"/>
              </a:rPr>
              <a:t>Наш лицей продолжает активно участвовать в мероприятиях, приуроченных Году родных языков и народного единства. 21 октября для 1 классов была организована экскурсия на выставку, посвящённую культуре татарского народа, где выставлены проектные работы учащихся в виде национальной одежды, элементов быта, угощений, украшений.  В ходе экскурсии ребята окунулись в историю культуры татарского народа, познакомились с их бытм и традициями. Затем с ребятами был проведен мастер-класс по изготовлению броши  с элементом национального орнамента. Посещение выставки стало значимым событием для них, они с интересом восприняли новую информацию и прониклись новыми впечатлениями</a:t>
            </a:r>
            <a:r>
              <a:rPr b="0" lang="tt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3005280" y="1068480"/>
            <a:ext cx="1769760" cy="2087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900000" y="1068480"/>
            <a:ext cx="1803600" cy="2019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4"/>
          <a:stretch/>
        </p:blipFill>
        <p:spPr>
          <a:xfrm>
            <a:off x="5076720" y="1068480"/>
            <a:ext cx="15987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5"/>
          <a:stretch/>
        </p:blipFill>
        <p:spPr>
          <a:xfrm>
            <a:off x="6932520" y="1077840"/>
            <a:ext cx="167184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Professional</cp:lastModifiedBy>
  <cp:lastPrinted>2021-02-04T07:26:50Z</cp:lastPrinted>
  <dcterms:modified xsi:type="dcterms:W3CDTF">2021-10-23T11:13:37Z</dcterms:modified>
  <cp:revision>468</cp:revision>
  <dc:subject/>
  <dc:title>Презентация PowerPoint</dc:title>
</cp:coreProperties>
</file>